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06F-3552-4F06-A67B-F7AE7C1A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F8A-4E68-41CE-9471-0310D277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FA5-FA66-4AB0-BA1B-4BF2E4D8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702-92C9-43F9-ADE6-AC9C44EF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F4FB-2492-43B7-80CA-F37F8230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F5B5-B146-4B86-9420-B4C9CA73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43DF-9585-44CC-AD7B-D158D7FE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092B-8A05-4F17-9F72-32F99B70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45BA-D32B-45DD-B431-36BCCCA6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B335-89F1-4427-B0F1-11DEC9D6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C247-10FE-4808-A88F-230AD67C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DDF-E6A6-4FA3-B710-23C6AA39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CA4A-F491-49EB-86F1-156F72A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2477-515E-43FE-BB60-3C9F7EA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E1BC-D181-4EC9-B0D4-ECFB7C84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AA69-354B-418F-9801-B3D33E88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A411-BD61-452F-9F09-522E10A3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90964-E5F3-4A44-BECC-C3EAD3A7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D2B51-B913-4AD0-A07C-C6AEBC88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75E95-7C5A-4EB7-A190-AFA2D0DB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B3A3B-1A7B-4F81-A22C-75E9371F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54E1D-9FA0-4BA7-8823-0CA72987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FA3-490D-460B-AABA-3605748A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A6435-77C1-442C-91E4-88E1A43C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EE94E-FDE0-404B-A975-E05C84D3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C6219-7FFE-4DF1-9CE3-92F30732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C022A-B28C-43C8-9A34-1D8A535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0B6BE-6F4B-40EE-B1F5-20CBF48E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85E9C-68F4-4DC3-8DE2-FEE804A9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050D6-5AB7-40A1-B88C-C415F631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83D49-4D1A-496D-ABA7-5DAF1133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B9873-0DB2-4593-97AA-26C2E341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2CBF5-E332-4456-88B7-A3A976E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18A-41D8-4EE3-B469-F159BC2C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8D750-667E-446B-9016-A9971B41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A452D-92C4-4F0F-92DC-9A24FECE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C5BE2-0930-41CF-909F-1C19B254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9B32B-FE5D-42A7-AE36-B59775E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78F30-D8D7-4463-B6F8-6E374FA7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8273D-78F2-4548-8339-040FA12B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B362D-C3A7-46A8-9E34-F7C5B70B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18AD2-7154-45A9-BA88-36082DCF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D5800-E0ED-4671-9758-1A704466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12854-E489-4365-A1EB-AB5ECCB1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D09-9734-45B5-BA35-252ABF50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AA0EF-42EE-4F4C-A3AF-D0257466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DE008-F575-4B4B-A4C0-4ED757F5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87E3F-B82B-4067-B36A-220084D7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BE03A-DD4F-4E0A-A9A5-F255D07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55F72-A55F-4FD8-B73B-7BFD5C7E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640AB-4DE8-4CA6-92A7-3B0131DA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43077-D19C-467A-BC6C-BB146EF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04650-49F2-44D5-89DB-2CD7A91F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B23E0-EDBE-44EA-BAD6-C7D27D2C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33BE6-67A1-4A07-96D0-A3AA4F32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B87-9089-4403-859B-9F00EB00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920CB-0671-4090-AF8C-65625DE7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7E696-C59B-47C2-AC99-15A4D7B2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F9A41-58C3-43C7-A9C1-4C2B125C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DA5E8-A481-4404-ACA9-8A41BF40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E0A11-FBED-4AD7-8969-BBDCDBB7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DE5FA-A85E-46AA-BC80-CD260AE2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DC59-E876-46DF-B358-CCCB09D1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AFF1F-A7B0-41D2-95BB-D25919C0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E7122-4ADA-4D92-902D-035DF83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A12B0-C1EB-488B-AC33-24433E4D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B60-F633-40F0-B4D5-A85E787C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80EA-5207-434C-94BC-56D17572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E25A2-4580-4D67-A289-EC14FDD5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93AB5-6E24-4EA6-8458-DDF00240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3ECA5-1E4D-4E32-B40A-565265FC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E51E3-5AD0-45CE-BB43-E91FBE9C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BA567-4099-484D-A241-909D33B3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1FD42-0234-4748-8687-44F8BEC7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8C155-4A5F-45F0-87BF-FD75C1D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62E44-E411-42BB-B211-56B7F25F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CE298-2149-4565-9971-4A0A7628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C67-4C4C-4838-B6D1-CA5552D0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558F9-72F5-4BB5-8FA7-8BC3CF56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8CAD1-AAF5-49E0-A243-A67104B0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8FC22-75F6-4C51-963D-62009377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C59ABF-A836-48F7-8FAB-3C8914B8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02901E-73D4-42C2-8CD1-C065FDFE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2F854-AFFE-42D2-AD55-D196E0B6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C9EEF-93C7-4812-B6C5-937CEFF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0742A-3643-444D-87EE-A965A227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A806E-9D1F-4E3E-9C37-A6F3C81E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510EF-D14F-455B-85A4-0E0D7F78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DFF-6CC0-4BF9-868E-560004F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56247-216A-4308-A50F-9EE4CC7A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95C4B-DDCA-4D63-A77C-7F25DBA4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B507D-07E7-4E4A-A7AA-C788754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004E3-BB28-4A95-BC0D-3A5105E9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C531E-3EEB-4902-A22B-98886608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2BE84-FD15-4164-9DED-FF72F245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18E89-A32C-4561-9B14-0C993EE7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32F-9CB5-4117-8D7C-B24AAB11111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7B74-4E1A-48EE-8F85-F5B0F8F8F524}" type="slidenum">
              <a:rPr b="1" lang="ru-RU" sz="14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BB03-51F1-452A-9331-BC872EC3E625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219B-F332-4449-8932-701F746A377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A6AB-CC12-42AA-885E-C122D4EB65F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3A05-0201-48BC-8C9B-C4B06F97AD00}" type="slidenum">
              <a:rPr b="1" lang="ru-RU" sz="14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B83A-C29C-4D2E-B961-40600AEB6382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D151-F400-417F-B4F8-06EC397CBF3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dpptmfmp@gmail.com" TargetMode="External"/><Relationship Id="rId2" Type="http://schemas.openxmlformats.org/officeDocument/2006/relationships/hyperlink" Target="mailto:dpptmekolog@gmail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6800" y="785520"/>
            <a:ext cx="72630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Социальные сервисы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еб 2.0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 проектной деятельности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артовую презентацию подготовила М.А. Габо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571680" y="407196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ем свой проект и размещаем его в с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15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Этапы работы над проектом (с. 13 – 15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Формулирование темы, основополагающего и проблемных вопросов группового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Определение целей и задач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Формулировка и обсуждение тем индивидуальных про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ланирование работы в групп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иск информации по темам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амостоятельная работа над индивидуальными про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дготовка портфолио, выбор формы представления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одготовка портфолио группового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Защита творческих прое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мы делаем сегодня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4200" y="1600200"/>
            <a:ext cx="8786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накомимся с теоретическим материалом по теме (презентация «Проекты» в папке Тема 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атриваем примеры проектов (в хрестоматии и на диске – модуль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олняем лист планирования работы по проекту (сетевая папк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улируем творческую тему группового проекта и его основополагающий вопрос (помощь – презентация «Основ вопрос» в папке Тема 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ределяем темы индивидуальных проектов в групп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ределяем обязанности по разработке портфолио проекта в груп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истрируем группу в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gle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на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iki.kgpi.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чинаем заполнять визитные карточки проектов (с. 22 – 27 и на диске Модуль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Портфолио проекта групп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Визитная карточ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omic Sans MS"/>
              </a:rPr>
              <a:t>Wiki</a:t>
            </a: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-страничка с общим описанием проекта и ссылками на индивидуальные проек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Презентаци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omic Sans MS"/>
              </a:rPr>
              <a:t>Сайт или блог проект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Портфолио индивидуального проек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Визитная карточ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Публикация или презентация по материалам прое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Презентация проекта или </a:t>
            </a:r>
            <a:r>
              <a:rPr b="0" lang="en-US" sz="2700" spc="-1" strike="noStrike">
                <a:solidFill>
                  <a:srgbClr val="04617b"/>
                </a:solidFill>
                <a:latin typeface="Comic Sans MS"/>
              </a:rPr>
              <a:t>wiki</a:t>
            </a: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-стать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Дидактические материалы (конспекты, игры, кроссворды, схемы для детей или студентов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Информационные материалы (статьи, интересные факты, энциклопедические сведения и т.п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omic Sans MS"/>
              </a:rPr>
              <a:t>Аннотированный каталог информационных ресурс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7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500"/>
                            </p:stCondLst>
                            <p:childTnLst>
                              <p:par>
                                <p:cTn id="8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Calibri"/>
              </a:rPr>
              <a:t>Лучшие проект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гут быть представлены на научно-практической конференции студентов и аспирантов КГПИ (и на других конференциях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гут участвовать в конкурсе проектов студентов КГП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alibri"/>
              </a:rPr>
              <a:t>Контактная информац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686d"/>
                </a:solidFill>
                <a:latin typeface="Calibri"/>
              </a:rPr>
              <a:t>Габова Марина Анатолье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E-mail: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Tw Cen MT"/>
                <a:hlinkClick r:id="rId1"/>
              </a:rPr>
              <a:t>dpptmfmp@gmail.com</a:t>
            </a:r>
            <a:r>
              <a:rPr b="0" lang="en-US" sz="2000" spc="-1" strike="noStrike">
                <a:solidFill>
                  <a:srgbClr val="004e6d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686d"/>
                </a:solidFill>
                <a:latin typeface="Calibri"/>
              </a:rPr>
              <a:t>Партыка Надежда Владимир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E-mail:</a:t>
            </a:r>
            <a:r>
              <a:rPr b="0" lang="ru-RU" sz="2000" spc="-1" strike="noStrike">
                <a:solidFill>
                  <a:srgbClr val="0066ff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Tw Cen MT"/>
                <a:hlinkClick r:id="rId2"/>
              </a:rPr>
              <a:t>dpptmekolog@gmail.com</a:t>
            </a:r>
            <a:r>
              <a:rPr b="0" lang="en-US" sz="2000" spc="-1" strike="noStrike">
                <a:solidFill>
                  <a:srgbClr val="0066ff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оми государственный педагогический инстит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афедра педагогики и методики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Г. Сыктывкар, ул. Коммунистическая, д. 21 (1 корпус КГП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каб. 3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6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91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Желаем успех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в освоени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метода проект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и сетевых сервисов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9ca3"/>
                </a:solidFill>
                <a:latin typeface="Calibri"/>
              </a:rPr>
              <a:t>Веб 2.0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щая характеристика проек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13840" y="1599840"/>
            <a:ext cx="8551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Тема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редства ИКТ в экологическом образовании детей дошкольного возра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Участники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уденты 636 групп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Учебные дисциплины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современных информационных и коммуникационных технологий в учебном процесс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ория и методика экологического образования дет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Руководител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ина Анатольевна Габова, к.п.н., доцен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дежда Владимировна Партыка, ст. преподавате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Цель проекта: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дготовка студентов к работе по экологическому образованию детей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85480" y="1599840"/>
            <a:ext cx="8715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Calibri"/>
              </a:rPr>
              <a:t>Задачи проект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лекать студентов к самостоятельному поиску и анализу информ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особствовать овладению студентами научно-исследовательскими умениями как основой проектирования работы по экологическому образованию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развитию научно-методического кругозора студентов, побуждать к самообразованию, саморазвити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ть становление творческой активной позиции студентов во взаимодействии в процессе коллективного поиска идей, достижение совместных творческих результат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вать условия для освоения умений использовать информационные технологии для представления хода и результатов исследовательской деяте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7160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3200"/>
            </a:b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85840" y="1714320"/>
            <a:ext cx="87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зн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еречислить основные виды растений и животных в уголке природы дошкольного учреждения, доступных пониманию детьми дошкольного возраст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499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формулировать требования к условиям содержания определенных видов растений и животных в уголке природ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поним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рассуждать о возможностях использования средства ИКТ дл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 создания дидактических материал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 презентации результатов своей работ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) организации занятий с деть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)  поиска информации по теме исслед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5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2900"/>
            </a:b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8678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примен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подбирать задания, направленные на ознакомление дет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 с комнатными растения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 с обитателями аквариума, террариума, акватеррариу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использовать современные научно обоснованные приемы, методы и средства обучения, в том числе ИК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 уровне анализ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называть основные видовые признаки растений и животных уголка природ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характеризовать особенности ухода за определенными обитателями уголков природ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отбирать приемы ознакомления детей с растениями и животными в разных возрастных групп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Что вы сможете </a:t>
            </a:r>
            <a:br>
              <a:rPr sz="2900"/>
            </a:br>
            <a:r>
              <a:rPr b="1" lang="ru-RU" sz="2900" spc="-1" strike="noStrike">
                <a:solidFill>
                  <a:srgbClr val="cc0099"/>
                </a:solidFill>
                <a:latin typeface="Comic Sans MS"/>
              </a:rPr>
              <a:t>в результате работы над проектом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86439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На уровне синтез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самостоятельно конструировать развивающие задания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осуществлять планирование и проведение занятий с детьм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ланировать построение предметно-развивающей среды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осуществлять моделирование образовательного процесса в соответствии с современными концепциями дошкольного образов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На уровне оценки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роводить самоанализ и самооценку, взаимоанализ и взаимооценку деятельности  с целью повышения педагогической квалифик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- планировать мероприятия по организации контроля за результатами обучения и воспит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Comic Sans MS"/>
              </a:rPr>
              <a:t>Умения 21-го века осваиваем в проекте!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Ответственность и адаптив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гибкость в личных, учебных и профессиональных делах; достижение высоких стандартов и целей для себя и друг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оммуникативные умен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понимание другого, умение создавать эффективные формы устного, письменного, мультимедийного и сетевого общ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реативность и любознатель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генерирование новых идей, их применение и обмен с другими; открытость новым и отличающимся от собственной точкам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Критическое и системное мышлени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мышление, обуславливающее совершение верного выбора; понимание взаимосвязей в сложных систем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Информационная и медиа грамот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находить, анализировать, обрабатывать, интегрировать, оценивать информацию в разных формах и на различных типах медиаоборуд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Межличностное взаимодействие и сотрудничество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работать в команде; выполнять разные роли и обязанности; продуктивно взаимодействовать с другими; сопереживать; уважать различные мн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Постановка и решение проблем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способность формулировать, анализировать и решать проблем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Направленность на саморазвити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мониторинг процесса освоения и своих потребностей в обучении; поиск ресурсов; перемещение информации из одной области знаний в другу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mic Sans MS"/>
              </a:rPr>
              <a:t>Социальная ответ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умение действовать в интересах сообщества; демонстрация этичного поведения в личном и общественном контекст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5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50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4200" y="1714320"/>
            <a:ext cx="8715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Основополагающий вопрос проекта: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Как средства ИКТ 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помогают педагогу </a:t>
            </a:r>
            <a:br>
              <a:rPr sz="3600"/>
            </a:br>
            <a:r>
              <a:rPr b="1" lang="ru-RU" sz="3600" spc="-1" strike="noStrike">
                <a:solidFill>
                  <a:srgbClr val="115964"/>
                </a:solidFill>
                <a:latin typeface="Comic Sans MS"/>
              </a:rPr>
              <a:t>в экологическом образовании детей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Темы творческих проектов студен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7120" y="1600200"/>
            <a:ext cx="87868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мнатные растения в уголке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квариум – модель экологической систем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тицы в уголке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лкие млекопитающие – постоянные обитатели живого угол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езонные обитатели уголка природы дошкольного учреж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6:49:41Z</dcterms:created>
  <dc:creator>Serg</dc:creator>
  <dc:description/>
  <dc:language>en-US</dc:language>
  <cp:lastModifiedBy>Serg</cp:lastModifiedBy>
  <dcterms:modified xsi:type="dcterms:W3CDTF">2010-03-11T15:21:46Z</dcterms:modified>
  <cp:revision>14</cp:revision>
  <dc:subject/>
  <dc:title>Слайд 1</dc:title>
</cp:coreProperties>
</file>